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7EC-6F96-4917-8730-95F090AC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4A4-8B12-4387-8E30-964BDAA2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449-9558-4799-AD7A-799CA134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0CC-0510-4019-B44C-4DBE9383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02F-A4B5-47F1-86E1-860D3DA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304-CBFD-4C7F-9F0B-7AA92F99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A51-0E60-425D-A941-96F9420A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00C-8D03-4655-B5A5-AE744A7C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7D8-8143-48E5-A021-17439FC0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6DC-8AC3-4F8C-992F-022D1B2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242-2FA8-4B38-8C81-189CACA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C5E-36E6-44E8-A29E-B18C47CC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D5D-6361-48C3-844A-9A01D36E29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4284720" y="134136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79640" y="2708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Arial"/>
              </a:rPr>
              <a:t>Powrót do granic przedrozbiorowych. Ponadto utworzenie w Europie wschodniej bloku niepodległych państw: Ukrainy, Białorusi, Litwy stanowiących zaporę dla ekspansji Z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1:30:17Z</dcterms:created>
  <dc:creator>rjuraszczyk</dc:creator>
  <dc:description/>
  <dc:language>en-US</dc:language>
  <cp:lastModifiedBy>IB</cp:lastModifiedBy>
  <dcterms:modified xsi:type="dcterms:W3CDTF">2013-03-14T17:20:25Z</dcterms:modified>
  <cp:revision>5</cp:revision>
  <dc:subject/>
  <dc:title>Koncepcja granic Józefa Piłsudsiego</dc:title>
</cp:coreProperties>
</file>